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B126-0036-4252-9F36-5775FF5452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1C4D-80D9-406C-AA18-935EDC7119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5A96-BC8A-4E79-960B-9947CDA0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B302-DE59-47C1-B6F4-CDE738AF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6B1C-2318-4711-8957-5EA486B7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F9C7-3FBF-4D97-BA3B-94630F4B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3341-B1D1-4F3E-B57F-F75B00B4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D1A-7254-408E-8B99-96004B8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8438-2D89-4081-9CB5-102DC969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4257-4837-45E7-BF6C-D56C51E4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245A-1ADD-4D60-9E11-AEC3FC69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1060-A663-4105-8CFE-EF7D268A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ADCE-13B4-4BAC-ADE2-725DDCF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0A97-EB54-4531-B838-4A1165EB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FBEB-380A-4258-A898-6C4B56FF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B33-2612-4405-AB21-146C141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0A9A-669B-4691-9406-8727059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701-1FDD-46A7-90AA-91D84E5E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3CD0-7E4D-4907-B5E6-DB58F315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3E06-C31B-44AC-91E8-F32431CE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ED11-C7FA-491E-9EE3-095271F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5E30-A1C7-42EC-9780-DD05196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8B65-26F7-472A-BB22-7C7F75D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289E-FCA5-41B7-BEC6-759BAB4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2186-9B70-457A-BA67-4F3100D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BC45-7049-419A-B114-B651B00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BFC-62C1-423D-87F1-72ED0169C6E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26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26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712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712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619-2CBA-486A-AFB9-65EE1857039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438280"/>
            <a:ext cx="842004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INCIPIO ADMINISTRATIVOS Y ACADÉMICOS EN LA EDUCACIÓN DEL X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30120" y="4343400"/>
            <a:ext cx="924552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s-CO" sz="2800" spc="-1" strike="noStrike">
                <a:solidFill>
                  <a:srgbClr val="00007d"/>
                </a:solidFill>
                <a:latin typeface="Arial"/>
              </a:rPr>
              <a:t>Ms. Wilton Gastelbondo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7 Diagrama" descr=""/>
          <p:cNvPicPr/>
          <p:nvPr/>
        </p:nvPicPr>
        <p:blipFill>
          <a:blip r:embed="rId1"/>
          <a:stretch/>
        </p:blipFill>
        <p:spPr>
          <a:xfrm>
            <a:off x="444600" y="566640"/>
            <a:ext cx="9064440" cy="1000080"/>
          </a:xfrm>
          <a:prstGeom prst="rect">
            <a:avLst/>
          </a:prstGeom>
          <a:ln w="0">
            <a:noFill/>
          </a:ln>
        </p:spPr>
      </p:pic>
      <p:pic>
        <p:nvPicPr>
          <p:cNvPr id="116" name="6 Diagrama" descr=""/>
          <p:cNvPicPr/>
          <p:nvPr/>
        </p:nvPicPr>
        <p:blipFill>
          <a:blip r:embed="rId2"/>
          <a:stretch/>
        </p:blipFill>
        <p:spPr>
          <a:xfrm>
            <a:off x="676440" y="1889280"/>
            <a:ext cx="8832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 Diagrama" descr=""/>
          <p:cNvPicPr/>
          <p:nvPr/>
        </p:nvPicPr>
        <p:blipFill>
          <a:blip r:embed="rId1"/>
          <a:stretch/>
        </p:blipFill>
        <p:spPr>
          <a:xfrm>
            <a:off x="622440" y="828720"/>
            <a:ext cx="897228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 Diagrama" descr=""/>
          <p:cNvPicPr/>
          <p:nvPr/>
        </p:nvPicPr>
        <p:blipFill>
          <a:blip r:embed="rId1"/>
          <a:stretch/>
        </p:blipFill>
        <p:spPr>
          <a:xfrm>
            <a:off x="853920" y="1116000"/>
            <a:ext cx="8161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758960" y="620640"/>
            <a:ext cx="643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Arial"/>
              </a:rPr>
              <a:t>DESARROLLO DE LA CULTURA EVALU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51040" y="1407960"/>
            <a:ext cx="23112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Arial"/>
              </a:rPr>
              <a:t>EVALUACIÓN DE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05280" y="1407960"/>
            <a:ext cx="21463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AUTOEVALUACIÓN INSTITUC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959520" y="1407960"/>
            <a:ext cx="189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EVALUACIÓN DE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20560" y="2475000"/>
            <a:ext cx="90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Evaluaciones inter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19200" y="2475000"/>
            <a:ext cx="90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Evaluaciones exter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72880" y="3465360"/>
            <a:ext cx="578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Áre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015920" y="3465360"/>
            <a:ext cx="90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Informes de los comi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089080" y="3465360"/>
            <a:ext cx="6606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SA</a:t>
            </a:r>
            <a:r>
              <a:rPr b="1" lang="es-CO" sz="900" spc="-1" strike="noStrike">
                <a:solidFill>
                  <a:srgbClr val="00007d"/>
                </a:solidFill>
                <a:latin typeface="Arial"/>
              </a:rPr>
              <a:t>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72880" y="4456080"/>
            <a:ext cx="127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079800" y="3465360"/>
            <a:ext cx="5778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ICF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274760" y="5084640"/>
            <a:ext cx="12304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 acadé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2263680" y="4456080"/>
            <a:ext cx="1320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317840" y="2465280"/>
            <a:ext cx="13208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Acreditación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2997360" y="6208560"/>
            <a:ext cx="3962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Arial"/>
              </a:rPr>
              <a:t>DIAGNOSTIC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822840" y="3774960"/>
            <a:ext cx="10731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7d"/>
                </a:solidFill>
                <a:latin typeface="Arial"/>
              </a:rPr>
              <a:t>Acreditación prev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5060880" y="3770280"/>
            <a:ext cx="10731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7d"/>
                </a:solidFill>
                <a:latin typeface="Arial"/>
              </a:rPr>
              <a:t>Acreditación por pa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400640" y="5065560"/>
            <a:ext cx="12380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6051600" y="2550960"/>
            <a:ext cx="660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Doc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6794640" y="2550960"/>
            <a:ext cx="99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Coordin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7867800" y="2550960"/>
            <a:ext cx="9079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Orient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8858160" y="2550960"/>
            <a:ext cx="99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Administrati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7454880" y="3562200"/>
            <a:ext cx="107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1924200" y="1332000"/>
            <a:ext cx="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355680" y="3846600"/>
            <a:ext cx="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9"/>
          <p:cNvSpPr/>
          <p:nvPr/>
        </p:nvSpPr>
        <p:spPr>
          <a:xfrm>
            <a:off x="4978440" y="1027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0"/>
          <p:cNvSpPr/>
          <p:nvPr/>
        </p:nvSpPr>
        <p:spPr>
          <a:xfrm>
            <a:off x="2006640" y="1255680"/>
            <a:ext cx="5943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1"/>
          <p:cNvSpPr/>
          <p:nvPr/>
        </p:nvSpPr>
        <p:spPr>
          <a:xfrm>
            <a:off x="2006640" y="1255680"/>
            <a:ext cx="0" cy="152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2"/>
          <p:cNvSpPr/>
          <p:nvPr/>
        </p:nvSpPr>
        <p:spPr>
          <a:xfrm>
            <a:off x="7950240" y="1255680"/>
            <a:ext cx="0" cy="152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3"/>
          <p:cNvSpPr/>
          <p:nvPr/>
        </p:nvSpPr>
        <p:spPr>
          <a:xfrm>
            <a:off x="2006640" y="1941480"/>
            <a:ext cx="0" cy="228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4"/>
          <p:cNvSpPr/>
          <p:nvPr/>
        </p:nvSpPr>
        <p:spPr>
          <a:xfrm>
            <a:off x="933480" y="2170080"/>
            <a:ext cx="19810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5"/>
          <p:cNvSpPr/>
          <p:nvPr/>
        </p:nvSpPr>
        <p:spPr>
          <a:xfrm>
            <a:off x="933480" y="217008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6"/>
          <p:cNvSpPr/>
          <p:nvPr/>
        </p:nvSpPr>
        <p:spPr>
          <a:xfrm>
            <a:off x="2914560" y="217008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7"/>
          <p:cNvSpPr/>
          <p:nvPr/>
        </p:nvSpPr>
        <p:spPr>
          <a:xfrm>
            <a:off x="933480" y="2855880"/>
            <a:ext cx="0" cy="228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8"/>
          <p:cNvSpPr/>
          <p:nvPr/>
        </p:nvSpPr>
        <p:spPr>
          <a:xfrm>
            <a:off x="2914560" y="2855880"/>
            <a:ext cx="0" cy="228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9"/>
          <p:cNvSpPr/>
          <p:nvPr/>
        </p:nvSpPr>
        <p:spPr>
          <a:xfrm>
            <a:off x="520560" y="308448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0"/>
          <p:cNvSpPr/>
          <p:nvPr/>
        </p:nvSpPr>
        <p:spPr>
          <a:xfrm>
            <a:off x="52056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1"/>
          <p:cNvSpPr/>
          <p:nvPr/>
        </p:nvSpPr>
        <p:spPr>
          <a:xfrm>
            <a:off x="142884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2"/>
          <p:cNvSpPr/>
          <p:nvPr/>
        </p:nvSpPr>
        <p:spPr>
          <a:xfrm>
            <a:off x="2419200" y="308448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3"/>
          <p:cNvSpPr/>
          <p:nvPr/>
        </p:nvSpPr>
        <p:spPr>
          <a:xfrm>
            <a:off x="241920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4"/>
          <p:cNvSpPr/>
          <p:nvPr/>
        </p:nvSpPr>
        <p:spPr>
          <a:xfrm>
            <a:off x="332748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5"/>
          <p:cNvSpPr/>
          <p:nvPr/>
        </p:nvSpPr>
        <p:spPr>
          <a:xfrm>
            <a:off x="520560" y="415116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7"/>
          <p:cNvSpPr/>
          <p:nvPr/>
        </p:nvSpPr>
        <p:spPr>
          <a:xfrm>
            <a:off x="520560" y="369396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8"/>
          <p:cNvSpPr/>
          <p:nvPr/>
        </p:nvSpPr>
        <p:spPr>
          <a:xfrm>
            <a:off x="1428840" y="3846600"/>
            <a:ext cx="0" cy="3045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9"/>
          <p:cNvSpPr/>
          <p:nvPr/>
        </p:nvSpPr>
        <p:spPr>
          <a:xfrm>
            <a:off x="933480" y="415116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0"/>
          <p:cNvSpPr/>
          <p:nvPr/>
        </p:nvSpPr>
        <p:spPr>
          <a:xfrm>
            <a:off x="2419200" y="415116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1"/>
          <p:cNvSpPr/>
          <p:nvPr/>
        </p:nvSpPr>
        <p:spPr>
          <a:xfrm>
            <a:off x="2419200" y="369396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2"/>
          <p:cNvSpPr/>
          <p:nvPr/>
        </p:nvSpPr>
        <p:spPr>
          <a:xfrm flipV="1">
            <a:off x="3327480" y="369396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3"/>
          <p:cNvSpPr/>
          <p:nvPr/>
        </p:nvSpPr>
        <p:spPr>
          <a:xfrm>
            <a:off x="2914560" y="415116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0"/>
          <p:cNvSpPr/>
          <p:nvPr/>
        </p:nvSpPr>
        <p:spPr>
          <a:xfrm>
            <a:off x="933480" y="4761000"/>
            <a:ext cx="0" cy="5331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1"/>
          <p:cNvSpPr/>
          <p:nvPr/>
        </p:nvSpPr>
        <p:spPr>
          <a:xfrm>
            <a:off x="2914560" y="4761000"/>
            <a:ext cx="0" cy="5331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4"/>
          <p:cNvSpPr/>
          <p:nvPr/>
        </p:nvSpPr>
        <p:spPr>
          <a:xfrm>
            <a:off x="933480" y="5294160"/>
            <a:ext cx="274680" cy="64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5"/>
          <p:cNvSpPr/>
          <p:nvPr/>
        </p:nvSpPr>
        <p:spPr>
          <a:xfrm flipV="1">
            <a:off x="2505240" y="5294160"/>
            <a:ext cx="409320" cy="64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8"/>
          <p:cNvSpPr/>
          <p:nvPr/>
        </p:nvSpPr>
        <p:spPr>
          <a:xfrm>
            <a:off x="1841400" y="5522760"/>
            <a:ext cx="0" cy="8384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9"/>
          <p:cNvSpPr/>
          <p:nvPr/>
        </p:nvSpPr>
        <p:spPr>
          <a:xfrm>
            <a:off x="1841400" y="6361200"/>
            <a:ext cx="115596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70"/>
          <p:cNvSpPr/>
          <p:nvPr/>
        </p:nvSpPr>
        <p:spPr>
          <a:xfrm>
            <a:off x="4978440" y="1865160"/>
            <a:ext cx="0" cy="6098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1"/>
          <p:cNvSpPr/>
          <p:nvPr/>
        </p:nvSpPr>
        <p:spPr>
          <a:xfrm>
            <a:off x="4978440" y="293220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2"/>
          <p:cNvSpPr/>
          <p:nvPr/>
        </p:nvSpPr>
        <p:spPr>
          <a:xfrm>
            <a:off x="4483080" y="3313080"/>
            <a:ext cx="99072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3"/>
          <p:cNvSpPr/>
          <p:nvPr/>
        </p:nvSpPr>
        <p:spPr>
          <a:xfrm>
            <a:off x="4483080" y="331308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4"/>
          <p:cNvSpPr/>
          <p:nvPr/>
        </p:nvSpPr>
        <p:spPr>
          <a:xfrm>
            <a:off x="5473800" y="331308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6"/>
          <p:cNvSpPr/>
          <p:nvPr/>
        </p:nvSpPr>
        <p:spPr>
          <a:xfrm>
            <a:off x="3987720" y="4227480"/>
            <a:ext cx="0" cy="10666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>
            <a:off x="5969160" y="4227480"/>
            <a:ext cx="0" cy="10666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9"/>
          <p:cNvSpPr/>
          <p:nvPr/>
        </p:nvSpPr>
        <p:spPr>
          <a:xfrm>
            <a:off x="3987720" y="5294160"/>
            <a:ext cx="41292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0"/>
          <p:cNvSpPr/>
          <p:nvPr/>
        </p:nvSpPr>
        <p:spPr>
          <a:xfrm>
            <a:off x="5638680" y="5294160"/>
            <a:ext cx="3304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1"/>
          <p:cNvSpPr/>
          <p:nvPr/>
        </p:nvSpPr>
        <p:spPr>
          <a:xfrm>
            <a:off x="4978440" y="5522760"/>
            <a:ext cx="0" cy="6858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2"/>
          <p:cNvSpPr/>
          <p:nvPr/>
        </p:nvSpPr>
        <p:spPr>
          <a:xfrm>
            <a:off x="7950240" y="186516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3"/>
          <p:cNvSpPr/>
          <p:nvPr/>
        </p:nvSpPr>
        <p:spPr>
          <a:xfrm>
            <a:off x="6381720" y="2170080"/>
            <a:ext cx="29718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4"/>
          <p:cNvSpPr/>
          <p:nvPr/>
        </p:nvSpPr>
        <p:spPr>
          <a:xfrm>
            <a:off x="638172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6"/>
          <p:cNvSpPr/>
          <p:nvPr/>
        </p:nvSpPr>
        <p:spPr>
          <a:xfrm>
            <a:off x="728964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7"/>
          <p:cNvSpPr/>
          <p:nvPr/>
        </p:nvSpPr>
        <p:spPr>
          <a:xfrm>
            <a:off x="836280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8"/>
          <p:cNvSpPr/>
          <p:nvPr/>
        </p:nvSpPr>
        <p:spPr>
          <a:xfrm>
            <a:off x="935352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9"/>
          <p:cNvSpPr/>
          <p:nvPr/>
        </p:nvSpPr>
        <p:spPr>
          <a:xfrm>
            <a:off x="6381720" y="3160800"/>
            <a:ext cx="29718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0"/>
          <p:cNvSpPr/>
          <p:nvPr/>
        </p:nvSpPr>
        <p:spPr>
          <a:xfrm>
            <a:off x="638172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1"/>
          <p:cNvSpPr/>
          <p:nvPr/>
        </p:nvSpPr>
        <p:spPr>
          <a:xfrm>
            <a:off x="728964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2"/>
          <p:cNvSpPr/>
          <p:nvPr/>
        </p:nvSpPr>
        <p:spPr>
          <a:xfrm>
            <a:off x="836280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3"/>
          <p:cNvSpPr/>
          <p:nvPr/>
        </p:nvSpPr>
        <p:spPr>
          <a:xfrm>
            <a:off x="935352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5"/>
          <p:cNvSpPr/>
          <p:nvPr/>
        </p:nvSpPr>
        <p:spPr>
          <a:xfrm>
            <a:off x="7950240" y="316080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6"/>
          <p:cNvSpPr/>
          <p:nvPr/>
        </p:nvSpPr>
        <p:spPr>
          <a:xfrm>
            <a:off x="7950240" y="3846600"/>
            <a:ext cx="0" cy="2514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7"/>
          <p:cNvSpPr/>
          <p:nvPr/>
        </p:nvSpPr>
        <p:spPr>
          <a:xfrm flipH="1">
            <a:off x="6959520" y="6361200"/>
            <a:ext cx="99072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8"/>
          <p:cNvSpPr/>
          <p:nvPr/>
        </p:nvSpPr>
        <p:spPr>
          <a:xfrm>
            <a:off x="2006640" y="1941480"/>
            <a:ext cx="22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7d"/>
                </a:solidFill>
                <a:latin typeface="Arial"/>
              </a:rPr>
              <a:t>Dos momentos articul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9"/>
          <p:cNvSpPr/>
          <p:nvPr/>
        </p:nvSpPr>
        <p:spPr>
          <a:xfrm>
            <a:off x="5143680" y="1027080"/>
            <a:ext cx="240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7d"/>
                </a:solidFill>
                <a:latin typeface="Arial"/>
              </a:rPr>
              <a:t>Tres momentos articul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3 Diagrama" descr=""/>
          <p:cNvPicPr/>
          <p:nvPr/>
        </p:nvPicPr>
        <p:blipFill>
          <a:blip r:embed="rId1"/>
          <a:stretch/>
        </p:blipFill>
        <p:spPr>
          <a:xfrm>
            <a:off x="438120" y="676440"/>
            <a:ext cx="8991720" cy="1384200"/>
          </a:xfrm>
          <a:prstGeom prst="rect">
            <a:avLst/>
          </a:prstGeom>
          <a:ln w="0">
            <a:noFill/>
          </a:ln>
        </p:spPr>
      </p:pic>
      <p:pic>
        <p:nvPicPr>
          <p:cNvPr id="201" name="4 Diagrama" descr=""/>
          <p:cNvPicPr/>
          <p:nvPr/>
        </p:nvPicPr>
        <p:blipFill>
          <a:blip r:embed="rId2"/>
          <a:stretch/>
        </p:blipFill>
        <p:spPr>
          <a:xfrm>
            <a:off x="438120" y="2560680"/>
            <a:ext cx="8991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905280" y="595440"/>
            <a:ext cx="23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DIAGNOSTIC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317840" y="1814400"/>
            <a:ext cx="1403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P 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22840" y="2886120"/>
            <a:ext cx="2476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PLAN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254320" y="4024440"/>
            <a:ext cx="569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PLAN DE MEJORAMIENT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72880" y="5167440"/>
            <a:ext cx="1651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DIR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502000" y="5167440"/>
            <a:ext cx="1815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ACADE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648320" y="5167440"/>
            <a:ext cx="2476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ADMINISTRATIVA Y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7372440" y="5167440"/>
            <a:ext cx="2146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COM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226120" y="2424240"/>
            <a:ext cx="4622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Times New Roman"/>
              </a:rPr>
              <a:t>Organización sistematización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473800" y="3414600"/>
            <a:ext cx="3962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Times New Roman"/>
              </a:rPr>
              <a:t>Proceso de priorización y jerarquización para el trabajo 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4978440" y="1357200"/>
            <a:ext cx="247680" cy="304920"/>
          </a:xfrm>
          <a:prstGeom prst="upDownArrow">
            <a:avLst>
              <a:gd name="adj1" fmla="val 50000"/>
              <a:gd name="adj2" fmla="val 24508"/>
            </a:avLst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060880" y="2271600"/>
            <a:ext cx="0" cy="60984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060880" y="3262320"/>
            <a:ext cx="0" cy="7621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1098720" y="4786200"/>
            <a:ext cx="73468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5060880" y="4405320"/>
            <a:ext cx="0" cy="38088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109872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40992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588636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844560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641680" y="785880"/>
            <a:ext cx="5283000" cy="52056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7d"/>
                </a:solidFill>
                <a:latin typeface="Times New Roman"/>
              </a:rPr>
              <a:t>GESTIÓN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12920" y="2614680"/>
            <a:ext cx="1568160" cy="70380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Modelo Pedag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11560" y="2614680"/>
            <a:ext cx="1568160" cy="70380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Enfoque Pedag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210200" y="2614680"/>
            <a:ext cx="1568160" cy="3988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Curr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08840" y="2614680"/>
            <a:ext cx="1568160" cy="70380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Plan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356520" y="4037040"/>
            <a:ext cx="990360" cy="3988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01920" y="5219640"/>
            <a:ext cx="1981440" cy="3682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026040" y="5205240"/>
            <a:ext cx="1733760" cy="3700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007480" y="5205240"/>
            <a:ext cx="1733400" cy="3700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5283360" y="1319040"/>
            <a:ext cx="0" cy="60984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1238400" y="1928880"/>
            <a:ext cx="5613120" cy="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123840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313704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495288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685152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6851520" y="337644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4292640" y="4900680"/>
            <a:ext cx="4622760" cy="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6851520" y="4443480"/>
            <a:ext cx="0" cy="4572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4292640" y="4900680"/>
            <a:ext cx="0" cy="30456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6851520" y="4900680"/>
            <a:ext cx="0" cy="30456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8915400" y="4900680"/>
            <a:ext cx="0" cy="30456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365800" y="1395360"/>
            <a:ext cx="28893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7d"/>
                </a:solidFill>
                <a:latin typeface="Times New Roman"/>
              </a:rPr>
              <a:t>Aspectos funda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136520" y="2349360"/>
            <a:ext cx="799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7d"/>
                  </a:solidFill>
                  <a:miter/>
                </a:ln>
                <a:solidFill>
                  <a:srgbClr val="00007d"/>
                </a:solidFill>
                <a:effectLst>
                  <a:outerShdw dist="107932" dir="13500000" blurRad="0" rotWithShape="0">
                    <a:srgbClr val="00007d">
                      <a:alpha val="50000"/>
                    </a:srgbClr>
                  </a:outerShdw>
                </a:effectLst>
                <a:latin typeface="Monotype Corsiva"/>
              </a:rPr>
              <a:t>Gracias</a:t>
            </a:r>
            <a:endParaRPr b="0" i="1" lang="en-US" sz="1800" spc="1" strike="noStrike">
              <a:ln w="9360">
                <a:solidFill>
                  <a:srgbClr val="00007d"/>
                </a:solidFill>
                <a:miter/>
              </a:ln>
              <a:solidFill>
                <a:srgbClr val="00007d"/>
              </a:solidFill>
              <a:effectLst>
                <a:outerShdw dist="107932" dir="13500000" blurRad="0" rotWithShape="0">
                  <a:srgbClr val="00007d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20:18:06Z</dcterms:created>
  <dc:creator>JOSE JOSE DOMINGUEZ</dc:creator>
  <dc:description/>
  <dc:language>en-US</dc:language>
  <cp:lastModifiedBy>MINISTERIO DE EDUCACION</cp:lastModifiedBy>
  <dcterms:modified xsi:type="dcterms:W3CDTF">2011-07-05T13:56:05Z</dcterms:modified>
  <cp:revision>44</cp:revision>
  <dc:subject/>
  <dc:title>DISEÑO DE PLANES DE AREA CON ENFOQUE POR COMPETENCIAS</dc:title>
</cp:coreProperties>
</file>